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DEB-0F74-4D2C-916B-9A681B1A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4B30-7EDC-4CB5-9CE1-BDA954F0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567-3BC6-4191-B458-7B550A10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15D1-949D-4B77-8618-4C693D2A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BF74-7776-4DA3-A318-6CDBA745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38EC-DBD2-4EFA-90D0-05152C0F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D51A-1AC7-499F-8C1D-DCF391C8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DC11-F910-48AA-A1DE-2BA2AB54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CE7C-EDE0-40EF-8E15-9265422F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D300-6561-4E5A-BF58-72504715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36D5-CACE-426E-9F9B-A17A8100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59D-5EA7-470C-AD21-C0745E20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F456-8B27-4CB6-8ABC-88FD4C21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D97D-C599-4A0E-9F24-A098121E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0E3B-4F62-4ABF-AF66-4BA96D3B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D1B2-0B3C-46DD-ABB0-7CCCD8D3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1602-F809-4907-BDFF-7F44D8F8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FC4-B821-4580-AE68-5B51EFEE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904C-368D-49FB-93DD-D4C2EFE9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53F9-B5F9-4A8F-A0D0-987042B4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0EF4-2E90-48B9-8FC8-46244112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CB6-E9DA-456B-AE4D-07570850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75E-A133-4041-B4C0-79BFC5D1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171-DCF3-401E-A260-B4DBDDCB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79B8-576C-46A0-B31D-29A071399A4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710E-F2B4-49A8-BE20-08FDD01C0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115920"/>
            <a:ext cx="6084720" cy="22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سهران كل اللي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5508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هران كلّ اللي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م صلّيل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نجوم تغف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شمع حدّي يدو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95640" y="0"/>
            <a:ext cx="5148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سوع حلم الكون خدني بإيد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ا درب إلـمَ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جَّك المحبوب</a:t>
            </a:r>
            <a:r>
              <a:rPr b="1" lang="ar-LB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2708280"/>
            <a:ext cx="9144000" cy="263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مشي وفتّش عالطريق مْنَين لِجبال إطلع إقطَع الوديان</a:t>
            </a:r>
            <a:r>
              <a:rPr b="1" lang="ar-LB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773360"/>
            <a:ext cx="9144000" cy="299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الشمس أو بالبحر إنت وَي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3429000"/>
            <a:ext cx="9144000" cy="278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مّا بزهره معطرة البست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5508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هران كلّ اللي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م صلّيل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نجوم تغف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شمع حدّي يدو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9:09:52Z</dcterms:created>
  <dc:creator>Charbel Azar</dc:creator>
  <dc:description/>
  <dc:language>en-US</dc:language>
  <cp:lastModifiedBy>ف</cp:lastModifiedBy>
  <dcterms:modified xsi:type="dcterms:W3CDTF">2006-04-11T09:52:50Z</dcterms:modified>
  <cp:revision>6</cp:revision>
  <dc:subject/>
  <dc:title>Slide 1</dc:title>
</cp:coreProperties>
</file>